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46040" y="279360"/>
            <a:ext cx="1035072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"Genetic and Environmental Influences on Intelligence"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09400" y="591804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y Dongmin and Sarah =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?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e your intellectual abilities mostly inherited? Or primarily molded by our environmen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enetic Influences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ople who share the same genes also share comparable mental abili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s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re were many studies of identical twins that proves that intelligence is in inherited genetically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omas Bouchard estimates about 70 percent of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eritabil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0414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- the proportion of variation among individuals that we can attribute to gene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heritability of a trait my vary, depending on the range of populations and environments studie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- the variation in intelligence test scores attributalbe to genetic factors is roughly 50%, but  does not mean genes responsible for 50 percent of your intelligence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eritability refers instead to the extent  to which differences among people are attributable to gene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